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applause.wav" ContentType="audio/x-wav"/>
  <Override PartName="/ppt/media/image6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11.wmf" ContentType="image/x-wmf"/>
  <Override PartName="/ppt/media/image17.png" ContentType="image/png"/>
  <Override PartName="/ppt/media/image16.gif" ContentType="image/gif"/>
  <Override PartName="/ppt/media/image14.wmf" ContentType="image/x-wmf"/>
  <Override PartName="/ppt/media/image12.wmf" ContentType="image/x-wmf"/>
  <Override PartName="/ppt/media/chimes.wav" ContentType="audio/x-wav"/>
  <Override PartName="/ppt/media/image13.wmf" ContentType="image/x-wmf"/>
  <Override PartName="/ppt/media/image2.gif" ContentType="image/gif"/>
  <Override PartName="/ppt/media/image10.wmf" ContentType="image/x-wmf"/>
  <Override PartName="/ppt/media/image3.jpeg" ContentType="image/jpeg"/>
  <Override PartName="/ppt/media/image5.gif" ContentType="image/gif"/>
  <Override PartName="/ppt/media/carbrake.wav" ContentType="audio/x-wav"/>
  <Override PartName="/ppt/media/image7.png" ContentType="image/png"/>
  <Override PartName="/ppt/media/image4.gif" ContentType="image/gif"/>
  <Override PartName="/ppt/media/image15.wmf" ContentType="image/x-wmf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75CF-2D67-4F0B-B780-F9161CF61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19DC-CC8A-4521-90EB-482B5211A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885-10CC-4403-AFB7-8771B992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398-D792-4C32-A808-8AF54550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805-B4C6-4C75-828B-14CDC471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F8E-D31B-4E6B-857C-C97B2800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F2BF-8900-42A5-AE80-AB0E9DB4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638C-CD7C-4EB3-9B92-7F1B9663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EC4E-314D-4ADA-A83C-1FACA404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CAC0-4CA7-46CF-8109-8A7F3C77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75B2-6CAD-4448-B7BA-DD87C1C4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B845-D125-4C41-92B1-D5C58202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68E2-6F9A-4E23-8207-33438B0D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437-43EF-4A53-A6B1-3AAEB5F2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DD07-5150-4E51-B5F4-17363D1A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2B40-1C14-4947-8F12-57278B54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AF28-85C1-41D8-ABF0-5F6CE868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1A0D-4044-4C57-9C65-B0C684EB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F7B9-3EE4-40CD-980C-9A49D955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76F-B41D-4487-81AD-7B852609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547-210F-43AC-8C87-D8E62590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B4D-BE0E-4209-8923-1593B014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BC0-32B4-4B00-950E-2482D2DB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6E9-2DC8-4A7E-86A7-2E4EBC1D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EA8-DB58-4D34-A792-B10671C9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369-194A-4380-B199-88EC10B1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70AA-86F7-4C1B-AF3F-F6BF926572E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314A-0D52-42CB-AFD6-12BE3751DE5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gif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28600" y="10666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复习回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59160" y="1905120"/>
            <a:ext cx="688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否找出下列多项式中的同类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xy-7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8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5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9xy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52280" y="3124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想一想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样的你能找出下列多项式的同类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1371600" y="4343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5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-a-4)-(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+2a-9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图片2"/>
          <p:cNvPicPr/>
          <p:nvPr/>
        </p:nvPicPr>
        <p:blipFill>
          <a:blip r:embed="rId1"/>
          <a:stretch/>
        </p:blipFill>
        <p:spPr>
          <a:xfrm>
            <a:off x="-2286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     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去括号，再合并同类项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               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5a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－</a:t>
            </a: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3b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） －</a:t>
            </a: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3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a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－</a:t>
            </a:r>
            <a:r>
              <a:rPr b="1" lang="en-US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2b</a:t>
            </a:r>
            <a:r>
              <a:rPr b="1" lang="zh-CN" sz="3600" spc="-1" strike="noStrike">
                <a:solidFill>
                  <a:srgbClr val="006633"/>
                </a:solidFill>
                <a:latin typeface="方正姚体"/>
                <a:ea typeface="方正姚体"/>
              </a:rPr>
              <a:t>）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2666880"/>
            <a:ext cx="814212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原式＝ 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5a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3b</a:t>
            </a:r>
            <a:r>
              <a:rPr b="1" lang="zh-CN" sz="3200" spc="-1" strike="noStrike">
                <a:solidFill>
                  <a:srgbClr val="c00000"/>
                </a:solidFill>
                <a:latin typeface="方正姚体"/>
                <a:ea typeface="方正姚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3 a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6b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5a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3b</a:t>
            </a:r>
            <a:r>
              <a:rPr b="1" lang="zh-CN" sz="3200" spc="-1" strike="noStrike">
                <a:solidFill>
                  <a:srgbClr val="c00000"/>
                </a:solidFill>
                <a:latin typeface="方正姚体"/>
                <a:ea typeface="方正姚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3 a</a:t>
            </a:r>
            <a:r>
              <a:rPr b="1" lang="zh-CN" sz="3200" spc="-1" strike="noStrike">
                <a:solidFill>
                  <a:srgbClr val="c00000"/>
                </a:solidFill>
                <a:latin typeface="方正姚体"/>
                <a:ea typeface="方正姚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6b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2a+3b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304920" y="3808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练一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1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1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1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24480" y="-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姚体"/>
                <a:ea typeface="方正姚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方正姚体"/>
                <a:ea typeface="方正姚体"/>
              </a:rPr>
              <a:t>我来试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295280" y="54100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③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数式去括号后，都必须经过合并同类项，其结果才能简洁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177920" y="457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去括号并合并同类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64680" y="96516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1236600" y="1000080"/>
            <a:ext cx="1811520" cy="480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3869640" y="88884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04920" y="1447920"/>
            <a:ext cx="10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2629080" cy="532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3"/>
          <a:stretch/>
        </p:blipFill>
        <p:spPr>
          <a:xfrm>
            <a:off x="4800600" y="888840"/>
            <a:ext cx="3598920" cy="5320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1"/>
          <p:cNvSpPr/>
          <p:nvPr/>
        </p:nvSpPr>
        <p:spPr>
          <a:xfrm>
            <a:off x="63720" y="205740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解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:</a:t>
            </a: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a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-(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-3b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2" descr=""/>
          <p:cNvPicPr/>
          <p:nvPr/>
        </p:nvPicPr>
        <p:blipFill>
          <a:blip r:embed="rId4"/>
          <a:stretch/>
        </p:blipFill>
        <p:spPr>
          <a:xfrm>
            <a:off x="380880" y="3022560"/>
            <a:ext cx="1766880" cy="503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>
            <a:off x="3458880" y="198108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原式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4" descr=""/>
          <p:cNvPicPr/>
          <p:nvPr/>
        </p:nvPicPr>
        <p:blipFill>
          <a:blip r:embed="rId5"/>
          <a:stretch/>
        </p:blipFill>
        <p:spPr>
          <a:xfrm>
            <a:off x="5029200" y="2819520"/>
            <a:ext cx="1316160" cy="4381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5"/>
          <p:cNvSpPr/>
          <p:nvPr/>
        </p:nvSpPr>
        <p:spPr>
          <a:xfrm>
            <a:off x="-380880" y="3809880"/>
            <a:ext cx="18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原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6" descr=""/>
          <p:cNvPicPr/>
          <p:nvPr/>
        </p:nvPicPr>
        <p:blipFill>
          <a:blip r:embed="rId6"/>
          <a:stretch/>
        </p:blipFill>
        <p:spPr>
          <a:xfrm>
            <a:off x="1371600" y="4349880"/>
            <a:ext cx="1785960" cy="501480"/>
          </a:xfrm>
          <a:prstGeom prst="rect">
            <a:avLst/>
          </a:prstGeom>
          <a:ln w="0">
            <a:noFill/>
          </a:ln>
        </p:spPr>
      </p:pic>
      <p:sp>
        <p:nvSpPr>
          <p:cNvPr id="213" name="Freeform 18"/>
          <p:cNvSpPr/>
          <p:nvPr/>
        </p:nvSpPr>
        <p:spPr>
          <a:xfrm flipV="1">
            <a:off x="6858000" y="2742480"/>
            <a:ext cx="457200" cy="5076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9"/>
          <p:cNvSpPr/>
          <p:nvPr/>
        </p:nvSpPr>
        <p:spPr>
          <a:xfrm>
            <a:off x="6172200" y="2743200"/>
            <a:ext cx="609480" cy="50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0"/>
          <p:cNvSpPr/>
          <p:nvPr/>
        </p:nvSpPr>
        <p:spPr>
          <a:xfrm>
            <a:off x="7467480" y="2743200"/>
            <a:ext cx="609840" cy="76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1"/>
          <p:cNvSpPr/>
          <p:nvPr/>
        </p:nvSpPr>
        <p:spPr>
          <a:xfrm>
            <a:off x="1752480" y="4317840"/>
            <a:ext cx="609840" cy="76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2"/>
          <p:cNvSpPr/>
          <p:nvPr/>
        </p:nvSpPr>
        <p:spPr>
          <a:xfrm>
            <a:off x="3200400" y="4317840"/>
            <a:ext cx="609480" cy="76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4572000" y="48769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括号前是否有数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4"/>
          <p:cNvSpPr txBox="1"/>
          <p:nvPr/>
        </p:nvSpPr>
        <p:spPr>
          <a:xfrm>
            <a:off x="152280" y="4622760"/>
            <a:ext cx="137160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注意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2209680" y="4876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否变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6" descr="0"/>
          <p:cNvPicPr/>
          <p:nvPr/>
        </p:nvPicPr>
        <p:blipFill>
          <a:blip r:embed="rId7"/>
          <a:stretch/>
        </p:blipFill>
        <p:spPr>
          <a:xfrm>
            <a:off x="8686800" y="4546440"/>
            <a:ext cx="457200" cy="1828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1"/>
          <p:cNvSpPr/>
          <p:nvPr/>
        </p:nvSpPr>
        <p:spPr>
          <a:xfrm>
            <a:off x="596520" y="256536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4a  a -3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1219320" y="2489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1676520" y="25653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2514600" y="2641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依据是什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5"/>
          <p:cNvSpPr/>
          <p:nvPr/>
        </p:nvSpPr>
        <p:spPr>
          <a:xfrm>
            <a:off x="2648160" y="309888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依据是什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6"/>
          <p:cNvSpPr/>
          <p:nvPr/>
        </p:nvSpPr>
        <p:spPr>
          <a:xfrm>
            <a:off x="2514600" y="2641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去括号法则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7"/>
          <p:cNvSpPr/>
          <p:nvPr/>
        </p:nvSpPr>
        <p:spPr>
          <a:xfrm>
            <a:off x="2057400" y="3098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合并同类项法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45"/>
          <p:cNvGrpSpPr/>
          <p:nvPr/>
        </p:nvGrpSpPr>
        <p:grpSpPr>
          <a:xfrm>
            <a:off x="4923720" y="2286000"/>
            <a:ext cx="3231720" cy="584280"/>
            <a:chOff x="4923720" y="2286000"/>
            <a:chExt cx="3231720" cy="584280"/>
          </a:xfrm>
        </p:grpSpPr>
        <p:sp>
          <p:nvSpPr>
            <p:cNvPr id="230" name="Freeform 17"/>
            <p:cNvSpPr/>
            <p:nvPr/>
          </p:nvSpPr>
          <p:spPr>
            <a:xfrm>
              <a:off x="5105160" y="2794320"/>
              <a:ext cx="304560" cy="75960"/>
            </a:xfrm>
            <a:prstGeom prst="pie">
              <a:avLst/>
            </a:pr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5638680" y="2794320"/>
              <a:ext cx="304560" cy="75960"/>
            </a:xfrm>
            <a:prstGeom prst="pie">
              <a:avLst/>
            </a:pr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8"/>
            <p:cNvSpPr/>
            <p:nvPr/>
          </p:nvSpPr>
          <p:spPr>
            <a:xfrm>
              <a:off x="4923720" y="2286000"/>
              <a:ext cx="5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=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9"/>
            <p:cNvSpPr/>
            <p:nvPr/>
          </p:nvSpPr>
          <p:spPr>
            <a:xfrm>
              <a:off x="5368320" y="2286000"/>
              <a:ext cx="8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+5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40"/>
            <p:cNvSpPr/>
            <p:nvPr/>
          </p:nvSpPr>
          <p:spPr>
            <a:xfrm>
              <a:off x="6093720" y="2336760"/>
              <a:ext cx="72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-3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41"/>
            <p:cNvSpPr/>
            <p:nvPr/>
          </p:nvSpPr>
          <p:spPr>
            <a:xfrm>
              <a:off x="6708240" y="233676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-2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2"/>
            <p:cNvSpPr/>
            <p:nvPr/>
          </p:nvSpPr>
          <p:spPr>
            <a:xfrm>
              <a:off x="7345440" y="2336760"/>
              <a:ext cx="8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+4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43"/>
          <p:cNvSpPr/>
          <p:nvPr/>
        </p:nvSpPr>
        <p:spPr>
          <a:xfrm>
            <a:off x="1321920" y="378468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6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4"/>
          <p:cNvSpPr/>
          <p:nvPr/>
        </p:nvSpPr>
        <p:spPr>
          <a:xfrm>
            <a:off x="2294280" y="37846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3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5"/>
          <p:cNvSpPr/>
          <p:nvPr/>
        </p:nvSpPr>
        <p:spPr>
          <a:xfrm>
            <a:off x="3042720" y="37846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2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4"/>
          <p:cNvSpPr/>
          <p:nvPr/>
        </p:nvSpPr>
        <p:spPr>
          <a:xfrm>
            <a:off x="7453440" y="2021040"/>
            <a:ext cx="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6"/>
          <p:cNvSpPr/>
          <p:nvPr/>
        </p:nvSpPr>
        <p:spPr>
          <a:xfrm>
            <a:off x="5181480" y="1981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5a-3b-(2a-4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900000" y="1052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28600" y="304920"/>
            <a:ext cx="7621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方正姚体"/>
                <a:ea typeface="方正姚体"/>
              </a:rPr>
              <a:t>巩固提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括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{ - [ - ( a – 2 b ) ]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826920" y="1700280"/>
            <a:ext cx="5257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法一：原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[-(- a+2b)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(a -2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a +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900000" y="3716280"/>
            <a:ext cx="770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法二：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2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成一个整体，运用多重符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简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(a-2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-a+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1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1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1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1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1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1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1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矩形 1" descr=""/>
          <p:cNvPicPr/>
          <p:nvPr/>
        </p:nvPicPr>
        <p:blipFill>
          <a:blip r:embed="rId1"/>
          <a:stretch/>
        </p:blipFill>
        <p:spPr>
          <a:xfrm>
            <a:off x="2712960" y="30240"/>
            <a:ext cx="3718080" cy="11826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"/>
          <p:cNvSpPr/>
          <p:nvPr/>
        </p:nvSpPr>
        <p:spPr>
          <a:xfrm>
            <a:off x="1630080" y="1484280"/>
            <a:ext cx="348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去括号法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去括号应注意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533520" y="4267080"/>
            <a:ext cx="5329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隶书"/>
                <a:ea typeface="华文隶书"/>
              </a:rPr>
              <a:t>作业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1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图片2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图片23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图片23"/>
          <p:cNvPicPr/>
          <p:nvPr/>
        </p:nvPicPr>
        <p:blipFill>
          <a:blip r:embed="rId3"/>
          <a:stretch/>
        </p:blipFill>
        <p:spPr>
          <a:xfrm>
            <a:off x="-3808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259092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  <a:ea typeface="华文新魏"/>
              </a:rPr>
              <a:t>随堂检测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762120" y="3505320"/>
            <a:ext cx="7391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9"/>
          <p:cNvSpPr/>
          <p:nvPr/>
        </p:nvSpPr>
        <p:spPr>
          <a:xfrm>
            <a:off x="533520" y="609480"/>
            <a:ext cx="60195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口答：去括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c03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a + (– b + c 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( 2 ) ( a – b ) –  2( c + d 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( 3 ) – (–  a + b ) – c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( 4 ) – (2x – y ) – ( - x</a:t>
            </a:r>
            <a:r>
              <a:rPr b="1" lang="en-US" sz="2800" spc="-1" strike="noStrike" baseline="30000">
                <a:solidFill>
                  <a:srgbClr val="0c0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 + y</a:t>
            </a:r>
            <a:r>
              <a:rPr b="1" lang="en-US" sz="2800" spc="-1" strike="noStrike" baseline="30000">
                <a:solidFill>
                  <a:srgbClr val="0c03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c0300"/>
                </a:solidFill>
                <a:latin typeface="Times New Roman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9"/>
          <p:cNvGraphicFramePr/>
          <p:nvPr/>
        </p:nvGraphicFramePr>
        <p:xfrm>
          <a:off x="685800" y="3886200"/>
          <a:ext cx="4495680" cy="260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3886200"/>
                    <a:ext cx="44956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矩形 19"/>
          <p:cNvSpPr/>
          <p:nvPr/>
        </p:nvSpPr>
        <p:spPr>
          <a:xfrm>
            <a:off x="2005920" y="3352680"/>
            <a:ext cx="46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判断下列计算是否正确，错的请说明理由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2"/>
          <p:cNvSpPr/>
          <p:nvPr/>
        </p:nvSpPr>
        <p:spPr>
          <a:xfrm>
            <a:off x="579132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3"/>
          <p:cNvSpPr/>
          <p:nvPr/>
        </p:nvSpPr>
        <p:spPr>
          <a:xfrm>
            <a:off x="5791320" y="4495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4"/>
          <p:cNvSpPr/>
          <p:nvPr/>
        </p:nvSpPr>
        <p:spPr>
          <a:xfrm>
            <a:off x="579132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5"/>
          <p:cNvSpPr/>
          <p:nvPr/>
        </p:nvSpPr>
        <p:spPr>
          <a:xfrm>
            <a:off x="5791320" y="5791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2004822428164"/>
          <p:cNvPicPr/>
          <p:nvPr/>
        </p:nvPicPr>
        <p:blipFill>
          <a:blip r:embed="rId2"/>
          <a:stretch/>
        </p:blipFill>
        <p:spPr>
          <a:xfrm>
            <a:off x="7683480" y="0"/>
            <a:ext cx="1460520" cy="1752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9"/>
          <p:cNvSpPr/>
          <p:nvPr/>
        </p:nvSpPr>
        <p:spPr>
          <a:xfrm>
            <a:off x="2895480" y="12952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去括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图片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法的结合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335480" y="657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191120" y="686880"/>
            <a:ext cx="38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+b+c =a+(b+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+(b+c) = a+b+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1856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图书馆内原有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同学。后来有些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上课要离开，第一批走了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同学，第二批又走了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同学。试用两种方式写出图书馆内还剩下的同学数？从中你能发现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1447920" y="479988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-(b+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0" y="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新知探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607280" y="5866560"/>
            <a:ext cx="167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- b-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4137120" y="58618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286000" y="58698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-(b+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559160" y="3885480"/>
            <a:ext cx="167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- b-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思路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1066680" y="4495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图书馆的总人数分别减去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次走的人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思路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1066680" y="54100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图书馆的总人数减去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次走的总人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1143000" y="59436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图片2"/>
          <p:cNvPicPr/>
          <p:nvPr/>
        </p:nvPicPr>
        <p:blipFill>
          <a:blip r:embed="rId1"/>
          <a:stretch/>
        </p:blipFill>
        <p:spPr>
          <a:xfrm>
            <a:off x="-380880" y="-3808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459160" y="16002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去括号前后，括号里各项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符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23"/>
          <p:cNvGrpSpPr/>
          <p:nvPr/>
        </p:nvGrpSpPr>
        <p:grpSpPr>
          <a:xfrm>
            <a:off x="3067200" y="380160"/>
            <a:ext cx="3922920" cy="1239840"/>
            <a:chOff x="3067200" y="380160"/>
            <a:chExt cx="3922920" cy="1239840"/>
          </a:xfrm>
        </p:grpSpPr>
        <p:sp>
          <p:nvSpPr>
            <p:cNvPr id="122" name="Rectangle 7"/>
            <p:cNvSpPr/>
            <p:nvPr/>
          </p:nvSpPr>
          <p:spPr>
            <a:xfrm>
              <a:off x="3067200" y="380160"/>
              <a:ext cx="371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GB" sz="4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(b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)=a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3366720" y="916560"/>
              <a:ext cx="362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GB" sz="4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-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(b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)=a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-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1" lang="en-GB" sz="4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-</a:t>
              </a: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8680" y="2417400"/>
            <a:ext cx="305748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581280" y="24382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1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181480" y="243828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+7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4876920" y="2438280"/>
            <a:ext cx="360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685800" y="3352680"/>
            <a:ext cx="3097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a+(6a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3809880" y="3352680"/>
            <a:ext cx="187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14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5257800" y="33526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715000" y="3352680"/>
            <a:ext cx="26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a+6a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685800" y="4191120"/>
            <a:ext cx="3352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3276720" y="4191120"/>
            <a:ext cx="165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1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724280" y="4114800"/>
            <a:ext cx="6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257800" y="4114800"/>
            <a:ext cx="2665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+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685800" y="5029200"/>
            <a:ext cx="358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6a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3505320" y="5029200"/>
            <a:ext cx="1904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4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4952880" y="502920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5334120" y="5029200"/>
            <a:ext cx="25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1" lang="en-GB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a+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152280" y="228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方正姚体"/>
                <a:ea typeface="方正姚体"/>
              </a:rPr>
              <a:t>观察并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7"/>
          <p:cNvSpPr txBox="1"/>
          <p:nvPr/>
        </p:nvSpPr>
        <p:spPr>
          <a:xfrm>
            <a:off x="152280" y="380880"/>
            <a:ext cx="2286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去括号法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609480" y="1447920"/>
            <a:ext cx="7772400" cy="1122840"/>
            <a:chOff x="609480" y="1447920"/>
            <a:chExt cx="7772400" cy="1122840"/>
          </a:xfrm>
        </p:grpSpPr>
        <p:sp>
          <p:nvSpPr>
            <p:cNvPr id="143" name="Text Box 9"/>
            <p:cNvSpPr/>
            <p:nvPr/>
          </p:nvSpPr>
          <p:spPr>
            <a:xfrm>
              <a:off x="1447920" y="1447920"/>
              <a:ext cx="69339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括号前是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“</a:t>
              </a:r>
              <a:r>
                <a:rPr b="1" lang="en-GB" sz="28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号，把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括号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和它前面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“</a:t>
              </a:r>
              <a:r>
                <a:rPr b="1" lang="en-GB" sz="28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号去掉后，原来</a:t>
              </a:r>
              <a:r>
                <a:rPr b="1" lang="zh-CN" sz="28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括号里各项的符号</a:t>
              </a:r>
              <a:r>
                <a:rPr b="1" lang="zh-CN" sz="3200" spc="-1" strike="noStrike">
                  <a:solidFill>
                    <a:srgbClr val="c00000"/>
                  </a:solidFill>
                  <a:latin typeface="华文中宋"/>
                  <a:ea typeface="华文中宋"/>
                </a:rPr>
                <a:t>都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不改变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0" descr="676"/>
            <p:cNvPicPr/>
            <p:nvPr/>
          </p:nvPicPr>
          <p:blipFill>
            <a:blip r:embed="rId1"/>
            <a:stretch/>
          </p:blipFill>
          <p:spPr>
            <a:xfrm>
              <a:off x="609480" y="1848960"/>
              <a:ext cx="838440" cy="72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Group 11"/>
          <p:cNvGrpSpPr/>
          <p:nvPr/>
        </p:nvGrpSpPr>
        <p:grpSpPr>
          <a:xfrm>
            <a:off x="609480" y="2666880"/>
            <a:ext cx="7696080" cy="1495440"/>
            <a:chOff x="609480" y="2666880"/>
            <a:chExt cx="7696080" cy="1495440"/>
          </a:xfrm>
        </p:grpSpPr>
        <p:sp>
          <p:nvSpPr>
            <p:cNvPr id="146" name="Text Box 12"/>
            <p:cNvSpPr/>
            <p:nvPr/>
          </p:nvSpPr>
          <p:spPr>
            <a:xfrm>
              <a:off x="1599840" y="2666880"/>
              <a:ext cx="670572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括号前是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“</a:t>
              </a:r>
              <a:r>
                <a:rPr b="1" lang="en-GB" sz="32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-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号，把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括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和它前面的“</a:t>
              </a:r>
              <a:r>
                <a:rPr b="1" lang="en-GB" sz="32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号去掉后，原来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括号里各项的符号</a:t>
              </a: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华文中宋"/>
                </a:rPr>
                <a:t>都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要改变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3" descr="679"/>
            <p:cNvPicPr/>
            <p:nvPr/>
          </p:nvPicPr>
          <p:blipFill>
            <a:blip r:embed="rId2"/>
            <a:stretch/>
          </p:blipFill>
          <p:spPr>
            <a:xfrm>
              <a:off x="609480" y="3244680"/>
              <a:ext cx="9144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Rectangle 14"/>
          <p:cNvSpPr/>
          <p:nvPr/>
        </p:nvSpPr>
        <p:spPr>
          <a:xfrm>
            <a:off x="533520" y="1295280"/>
            <a:ext cx="8229600" cy="31244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228600" y="838080"/>
            <a:ext cx="72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去括号法则的理解及注意事项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13716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去括号的依据是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乘法分配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266688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注意法则中“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都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字，变号时，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各项都要变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不是只变第一项；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若不变号，各项都不变号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464832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有多重括号时，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一般先去小括号，再去中括号，最后去大括号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每去掉一层括号，如果有同类项应随时合并，为下一步运算简便化，减少差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533680" y="4040280"/>
            <a:ext cx="28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n-GB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388600" y="3430440"/>
            <a:ext cx="29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n-GB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5400360" y="343044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474520" y="4040280"/>
            <a:ext cx="25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762120" y="3505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都不变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762120" y="40384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都变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97400" y="1906560"/>
            <a:ext cx="27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(b</a:t>
            </a:r>
            <a:r>
              <a:rPr b="1" lang="en-GB" sz="2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810240" y="1906560"/>
            <a:ext cx="23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(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)=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2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pictur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06436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例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1   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去括号：</a:t>
            </a:r>
            <a:br>
              <a:rPr sz="4200"/>
            </a:b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b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c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d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 （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b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c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d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 </a:t>
            </a:r>
            <a:br>
              <a:rPr sz="4000"/>
            </a:b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3(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b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c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d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） </a:t>
            </a:r>
            <a:br>
              <a:rPr sz="40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04920" y="16765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5"/>
          <p:cNvSpPr/>
          <p:nvPr/>
        </p:nvSpPr>
        <p:spPr>
          <a:xfrm>
            <a:off x="1292400" y="3657600"/>
            <a:ext cx="517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a+3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c+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324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含数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6324480" y="4191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乘法分配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324480" y="4648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去括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1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1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图片04"/>
          <p:cNvPicPr/>
          <p:nvPr/>
        </p:nvPicPr>
        <p:blipFill>
          <a:blip r:embed="rId1"/>
          <a:stretch/>
        </p:blipFill>
        <p:spPr>
          <a:xfrm>
            <a:off x="-3808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0" y="76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14400" y="1644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比一比，看谁快又准确率高 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57400" y="2408400"/>
            <a:ext cx="13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去括号</a:t>
            </a:r>
            <a:r>
              <a:rPr b="1" lang="en-US" sz="2800" spc="-1" strike="noStrike">
                <a:solidFill>
                  <a:srgbClr val="006633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62080" y="3003480"/>
            <a:ext cx="25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16640" y="39625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(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94760" y="4876920"/>
            <a:ext cx="27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(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895480" y="3048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+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81952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048120" y="4876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57200" y="277920"/>
            <a:ext cx="8228880" cy="1251000"/>
            <a:chOff x="457200" y="277920"/>
            <a:chExt cx="8228880" cy="1251000"/>
          </a:xfrm>
        </p:grpSpPr>
        <p:sp>
          <p:nvSpPr>
            <p:cNvPr id="179" name="Freeform 5"/>
            <p:cNvSpPr/>
            <p:nvPr/>
          </p:nvSpPr>
          <p:spPr>
            <a:xfrm>
              <a:off x="457200" y="733680"/>
              <a:ext cx="8228880" cy="244800"/>
            </a:xfrm>
            <a:prstGeom prst="pi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cc9900"/>
              </a:solidFill>
              <a:round/>
            </a:ln>
            <a:effectLst>
              <a:outerShdw dist="153753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 rot="158400">
              <a:off x="993600" y="636120"/>
              <a:ext cx="2146320" cy="24588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3b812f"/>
                </a:gs>
              </a:gsLst>
              <a:lin ang="18900000"/>
            </a:gradFill>
            <a:ln w="381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"/>
            <p:cNvSpPr/>
            <p:nvPr/>
          </p:nvSpPr>
          <p:spPr>
            <a:xfrm>
              <a:off x="1709640" y="429840"/>
              <a:ext cx="2146320" cy="245880"/>
            </a:xfrm>
            <a:prstGeom prst="pie">
              <a:avLst/>
            </a:prstGeom>
            <a:gradFill rotWithShape="0">
              <a:gsLst>
                <a:gs pos="0">
                  <a:srgbClr val="3b812f"/>
                </a:gs>
                <a:gs pos="50000">
                  <a:srgbClr val="cc3300"/>
                </a:gs>
                <a:gs pos="100000">
                  <a:srgbClr val="3b812f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"/>
            <p:cNvSpPr/>
            <p:nvPr/>
          </p:nvSpPr>
          <p:spPr>
            <a:xfrm rot="961200">
              <a:off x="993600" y="560520"/>
              <a:ext cx="1073160" cy="24480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ffcc66"/>
                </a:gs>
                <a:gs pos="100000">
                  <a:srgbClr val="996600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2067120" y="277920"/>
              <a:ext cx="1788840" cy="24588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814680" y="885600"/>
              <a:ext cx="1431360" cy="24588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ff9900"/>
                </a:gs>
                <a:gs pos="100000">
                  <a:srgbClr val="996600"/>
                </a:gs>
              </a:gsLst>
              <a:lin ang="2700000"/>
            </a:gradFill>
            <a:ln w="1908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"/>
            <p:cNvSpPr/>
            <p:nvPr/>
          </p:nvSpPr>
          <p:spPr>
            <a:xfrm rot="1629000">
              <a:off x="635760" y="1171440"/>
              <a:ext cx="547560" cy="24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2"/>
            <p:cNvSpPr/>
            <p:nvPr/>
          </p:nvSpPr>
          <p:spPr>
            <a:xfrm>
              <a:off x="2782800" y="328320"/>
              <a:ext cx="5364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3677040" y="327240"/>
              <a:ext cx="48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33"/>
                  </a:solidFill>
                  <a:latin typeface="华文宋体"/>
                  <a:ea typeface="华文宋体"/>
                </a:rPr>
                <a:t>随堂练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1"/>
          <p:cNvGrpSpPr/>
          <p:nvPr/>
        </p:nvGrpSpPr>
        <p:grpSpPr>
          <a:xfrm>
            <a:off x="6400800" y="0"/>
            <a:ext cx="2361960" cy="1805040"/>
            <a:chOff x="6400800" y="0"/>
            <a:chExt cx="2361960" cy="1805040"/>
          </a:xfrm>
        </p:grpSpPr>
        <p:pic>
          <p:nvPicPr>
            <p:cNvPr id="189" name="Picture 22" descr="677"/>
            <p:cNvPicPr/>
            <p:nvPr/>
          </p:nvPicPr>
          <p:blipFill>
            <a:blip r:embed="rId2"/>
            <a:stretch/>
          </p:blipFill>
          <p:spPr>
            <a:xfrm>
              <a:off x="6400800" y="274680"/>
              <a:ext cx="22096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23"/>
            <p:cNvSpPr/>
            <p:nvPr/>
          </p:nvSpPr>
          <p:spPr>
            <a:xfrm>
              <a:off x="6858000" y="0"/>
              <a:ext cx="1904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pictur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126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例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2   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先去括号，再合并同类项：</a:t>
            </a:r>
            <a:br>
              <a:rPr sz="4200"/>
            </a:b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（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8a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2b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＋（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5a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）；</a:t>
            </a:r>
            <a:br>
              <a:rPr sz="4200"/>
            </a:b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（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6a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＋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（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－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1523880"/>
            <a:ext cx="854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  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用变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                 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合并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)        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乘法分配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a+2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            —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去括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                   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合并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1" dur="3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6" dur="3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1" dur="3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6" dur="3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1" dur="3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1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1" dur="3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3-11-25T00:41:51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